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F02-84D2-4E8B-B0F8-A039FDB4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153-8FBC-49C7-A11C-16075169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0C73E-8651-49DF-A4EE-FE025D2A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8BEA5-7015-4112-96CE-343FAEFE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A2CB0-B2D8-423B-92F1-AFD90CA1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5AA7E-F322-4843-B555-8B8F483B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EBAE1-859F-4A4B-881A-76DA1DC2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4F75F-3FF3-43E3-B640-C231ACAB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56408-C7E7-4084-B402-D4CF8303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DBF0A-D528-4488-B1B6-1D9D9440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F9D46-9B32-4333-A5FF-4127DB80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6E942C-3860-437E-9043-9D805DF7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088-A9C7-4AF0-8647-328EBDA6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3A0399-830D-47DE-B6DE-1E34F1D7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4B6F9A-DED0-40BF-AA48-D4168930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6B270B-BA8F-4E60-84A8-5F09AB85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C4D8F5-911D-4B12-9C12-78404835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C25CA8-0C01-4837-84B4-BC3C6659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36658A-C07E-4F21-B094-BD0F33D2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D34808-9D1E-41AC-B224-62FF4A23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EBBFA4-D7EE-4042-BE9B-FD3E050B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0EE396-39B2-4B17-A22A-3BE9AF9A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D75B74-E1FA-4899-B0FF-F1E9985B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814-E029-43AE-8C0F-2135B387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2BF0D9-9DEA-42F6-A546-D87448B3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83D68-23F1-402D-8583-55F460F4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94355-9856-4637-B11C-A90F6160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DFB84-E403-4C2C-B760-A0E532E5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802C9-03D9-433F-B899-B3A70779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09EB7-F690-494F-9AF7-58B3CDE2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2C56F-E5A0-447D-80D6-34D802D6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C6C6F-BEB7-421C-84FF-43125D27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6F637-68B0-478B-B71A-C99454F2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50740-943C-41D7-8963-C09EA795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1A17-799F-4A2D-A2CD-9EE2FB13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39D19-B71C-40A8-B723-CD78CC55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034FC-C229-4961-B925-2650A132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58FA3-E607-4D60-BA10-311690A1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174A8-DA7F-40C0-B9EE-F76490AA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5D1B8-CAE5-4AB7-BDC2-56D660FA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A1C83-EFC3-4E0B-9248-35AA327E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FA4FA-A55F-4DDF-81A7-2E282C0D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DF23B-CF12-4680-9BC2-2F8FAD2E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D09C6-2EF8-4915-8DC0-1ED98AB5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EFE76-02B0-42A3-873D-460828D9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6516-D695-46A9-A73D-05DD5AE3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E6B56-3847-4066-BD83-6CC00530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54BC5-E65C-4A74-816A-6441518B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48AE3-E9A5-4DA3-A88E-DC043092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9F822-0A7B-4FC5-A62F-CAD35542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1739C-E819-4DF2-958B-BD50D51B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C682-E6BB-4360-B9E4-6876AC28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AD99-FB8A-49EA-8302-198B0485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092D-4C5E-4108-AB61-CA67B26E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D020-EC33-40A5-AF5A-8502A27D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1F97-EB6C-42CB-82EB-C18955B2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283-92EE-4706-8B89-EC63DB9F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BDF7-7B05-42A7-91B3-B6EE915F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9395-D33D-4831-BCE4-30496B73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E8BF-2D8A-4178-8D00-62103369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1F6F-9716-471E-977F-5E7025AB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5719-79F2-450B-A2BB-8DE6758B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ABD0-E36E-4C8E-9985-0708F0E1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44DDB-5D2B-4A88-BB4F-8C4980D1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507C-9289-49A8-B036-50CDA87D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36745-4C12-4EFA-97CC-A974F29D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885F9-8F12-4DE3-B413-B58D089B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3B8-47BE-4933-B703-54323C99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3244-BDD5-49D6-AF49-C1740054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EF146-C2E2-4387-B9EF-DB50A684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AFC83-4154-4270-9CCA-1A9668AE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FC8B8-F79F-47DB-B783-D019FF63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5167-FC3C-4F99-8F63-829D1B45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4EB3E-007C-4FA8-9FBB-3447EC38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F3FE-AF0C-4953-8B23-0E950175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7BF9B-82D6-4EC1-9E0D-6F08CDE7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C215B-15C0-485F-A8F1-49D03F25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6EA62B-C991-4158-A83E-701278DB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97A-E8AF-467F-8BF4-8BB2DCCC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DAF9C-5EA2-48B6-9E9F-E4E17536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A6407-6483-4DF7-AF98-099DF507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BC0DC-0552-4239-8916-E10C8708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B53F65-4009-41D7-A3ED-4E66EC6F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2F2EB8-F112-42E5-89EC-47BE464E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50449-F992-4DCB-BF2D-A51EDFFC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7ED65-F647-4AF4-8C66-1E7139B4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0478D-7648-48C7-BE25-17E6FCD8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BE1795-A99C-4869-81FD-14F08B7B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E15E5E-7F41-4789-AA6D-2E623EB1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1F1-E468-4831-9815-00CE4451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7504B-BD0E-4E94-A3B8-2254D7A9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667F4-50EE-4B4C-BB4F-E8D74677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8E029-61B8-4592-86F5-A57553E1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928F6-AABF-4825-8819-D8074F1F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CD0F8-E39F-4121-B7DE-3480187C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3CF8D-72C1-46F3-9983-48EBC065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3DEDF-8C94-4B19-8214-4CB77ABF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F23BCB-91C6-458B-AD60-8374F74E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89982-28EE-48DE-AFB6-79DAEF7B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1EE3A-3A6E-491A-8262-22BFFC08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E8F-5650-467A-AA47-283B4AB2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ECA3A-F51C-41D4-885A-C6500C94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EBD90-1016-4DC1-89E1-F04D8D02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A6ADA-F7BF-461A-B052-BA220199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34D85E-00CA-4851-964D-A9FA4DF5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0EA5F5-20E7-434D-91FD-3365518C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CB2947-9CC0-4CE4-A607-8160489D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D83172-54A5-4BA3-86FD-7302141C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A20F2-36B6-4B3E-BE0E-468F09BB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4F95D-5339-4EEC-8FA4-E6DA1DC8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AC519-A479-4C78-B5F5-93BB5302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B63-E84D-43B8-BC02-BB77C376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F1E5A-D458-4BF4-A081-C98DD944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B55D9-C475-4676-9818-9206C0D5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30D14-EA00-4359-BFDE-7A3DF1BF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B6920-4662-4826-9365-7391FB00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BA418-A72F-4D18-99D9-38225E64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299D6-69F9-4C70-BC52-EAE1FADD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CCEC8-F439-472F-9161-A46E0F46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0C5BA-A6CF-4B39-B8D1-63660031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68930-F788-4D3F-A9E0-13883B5E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3D7A5-9D0A-4B7B-964C-60C6BB95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B05-DCB4-419D-BA53-6BEDA177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E909C-E541-4EF3-97AA-8F3EC200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D966C-803F-4815-B613-7DBC4DF5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5C796-B4CF-489E-A968-3C0F44D3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87835-39E2-4073-96C7-62CF99C0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DF22B-23E8-43C2-9473-E7611258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89536-07FF-4552-B92A-75B5593E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F08B0-27C8-4078-AB09-D26E846D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AE60B-1D09-4385-8CA6-9EA4DD37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D368D-2348-4926-89FD-727BB55E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ECAD8-D2A3-49A0-8AE2-B63D3BBF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A8B-13B9-4378-9308-049FB8AE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76F9E-7812-482B-A530-491A3271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2C30C-B552-43B1-ABF9-46DF9BC2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3AF7F-CCB5-4753-AA2D-8AF32667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2E2A3-E11B-4E32-B444-E5801EEC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ACDF5-B70A-4E3D-9533-133630A7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3A094-C5B0-4A7D-9413-8C0C4A4C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6897C-122C-4656-9BB8-76828F73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37781-ABB8-4F5D-A91C-291EA0AD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5D2AC-10AB-4885-ABDD-AFA869A9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7579D-BEDE-4AF7-BDAE-040C3810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2DD0-B7B5-4922-AED5-0D4F0A6A72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112F-A9D4-4E82-99E6-941518A02AE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B332-9610-4028-B609-8E3C2A2D87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D4A4-E7F6-47CA-BDA0-39566615CD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C8CC-4C89-49A2-B724-6CF4AC87D938}" type="datetime">
              <a:rPr b="0" lang="ru-RU" sz="2000" spc="-1" strike="noStrike">
                <a:solidFill>
                  <a:srgbClr val="ffffff"/>
                </a:solidFill>
                <a:latin typeface="Calibri"/>
              </a:rPr>
              <a:t>29.07.26</a:t>
            </a:fld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fld id="{4271106D-BDBE-428C-9AA3-39BEBFB3E737}" type="datetime10">
              <a:rPr b="0" lang="ru-RU" sz="2000" spc="-1" strike="noStrike">
                <a:solidFill>
                  <a:srgbClr val="ffffff"/>
                </a:solidFill>
                <a:latin typeface="Calibri"/>
              </a:rPr>
              <a:t>18:5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5BE2-AB37-4C85-944A-E18399E67843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60E3-47FC-4FDB-BA0F-BA612CA5D2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06A6-F971-46F9-A5DB-2A19EA4EB693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29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A3D60A97-3E3E-4D72-BD63-0251ACBC72E3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18:5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9031-76C2-4E41-A69A-7FED741C31FF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2480-A92F-49C7-9A10-B7366F4521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6B8F-6797-465F-8BA8-EB810825B6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6244-83E1-415D-B52E-F751127E89C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CE8C-2CE5-4E33-B3A4-B88761D2CFC1}" type="slidenum">
              <a:rPr b="1" lang="en-US" sz="1400" spc="-1" strike="noStrike">
                <a:solidFill>
                  <a:srgbClr val="4f27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7" descr="sm_pencil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009dd9"/>
            </a:solidFill>
            <a:miter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8AA7-9829-429A-8818-EE084559B2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" TargetMode="External"/><Relationship Id="rId3" Type="http://schemas.openxmlformats.org/officeDocument/2006/relationships/hyperlink" Target="https://edsoo.ru/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" TargetMode="External"/><Relationship Id="rId3" Type="http://schemas.openxmlformats.org/officeDocument/2006/relationships/hyperlink" Target="https://edsoo.ru/" TargetMode="Externa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Primernie_rabochie_progra.htm" TargetMode="External"/><Relationship Id="rId3" Type="http://schemas.openxmlformats.org/officeDocument/2006/relationships/hyperlink" Target="https://edsoo.ru/Primernie_rabochie_progra.htm" TargetMode="External"/><Relationship Id="rId4" Type="http://schemas.openxmlformats.org/officeDocument/2006/relationships/hyperlink" Target="https://edsoo.ru/Primernie_rabochie_progra.htm" TargetMode="External"/><Relationship Id="rId5" Type="http://schemas.openxmlformats.org/officeDocument/2006/relationships/hyperlink" Target="https://fgosreestr.ru/" TargetMode="External"/><Relationship Id="rId6" Type="http://schemas.openxmlformats.org/officeDocument/2006/relationships/hyperlink" Target="https://fgosreestr.ru/" TargetMode="External"/><Relationship Id="rId7" Type="http://schemas.openxmlformats.org/officeDocument/2006/relationships/hyperlink" Target="https://edsoo.ru/constructor/" TargetMode="Externa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Подзаголовок 10"/>
          <p:cNvSpPr/>
          <p:nvPr/>
        </p:nvSpPr>
        <p:spPr>
          <a:xfrm>
            <a:off x="0" y="2133720"/>
            <a:ext cx="9144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ОРГАНИЗАЦИЯ СОПРОВОЖДЕНИЯ УЧИТЕЛЕЙ В ПРОЦЕССЕ РЕАЛИЗАЦИИ ОБНОВЛЕННЫХ ФГОС НАЧАЛЬНОГО ОБЩЕГО ОБРАЗОВАНИЯ И               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Прямоугольник 16"/>
          <p:cNvSpPr/>
          <p:nvPr/>
        </p:nvSpPr>
        <p:spPr>
          <a:xfrm>
            <a:off x="4249800" y="634536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Bookman Old Style"/>
                <a:ea typeface="Arial"/>
              </a:rPr>
              <a:t>2022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Rectangle 14"/>
          <p:cNvSpPr/>
          <p:nvPr/>
        </p:nvSpPr>
        <p:spPr>
          <a:xfrm>
            <a:off x="1619280" y="5445000"/>
            <a:ext cx="6405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Bookman Old Style"/>
                <a:ea typeface="Arial"/>
              </a:rPr>
              <a:t>Сапегина Светлана Юрьевна                                                  ведущий специалист Управление образования Администрации Талиц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6" name="Picture 2" descr="C:\Users\MalenkovaEV.EDU1\Desktop\Картинки\flag_rossiya_simvolika_lenty_trikolor_99276_2560x1600.jpg"/>
          <p:cNvPicPr/>
          <p:nvPr/>
        </p:nvPicPr>
        <p:blipFill>
          <a:blip r:embed="rId1"/>
          <a:stretch/>
        </p:blipFill>
        <p:spPr>
          <a:xfrm>
            <a:off x="109440" y="262080"/>
            <a:ext cx="3492720" cy="161604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8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809640" cy="11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Рисунок 5" descr=""/>
          <p:cNvPicPr/>
          <p:nvPr/>
        </p:nvPicPr>
        <p:blipFill>
          <a:blip r:embed="rId1"/>
          <a:stretch/>
        </p:blipFill>
        <p:spPr>
          <a:xfrm>
            <a:off x="252360" y="44280"/>
            <a:ext cx="720720" cy="104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507080" cy="11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15964"/>
                </a:solidFill>
                <a:latin typeface="Calibri"/>
              </a:rPr>
              <a:t>ПОЗДРАВЛЯЕМ ВАС С НАЧАЛОМ НОВОГО УЧЕБНОГО ГОД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76000" y="104760"/>
            <a:ext cx="728964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рганизационно-подготовительные мероприят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курсовой подготовки по внедрению обновленных ФГОС НОО и ФГОС ООО для педагогических работник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ирование цикла мероприятий ( практических групповых занятий, индивидуальных консультаций и др.) по работе с порталом Единое содержание общего образования (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://edsoo.ru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для информирования педагогов о нормативных документах и освоении конструктора рабочих программ с целью подготовки рабочих программ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лана работы по сопровождению педагогов, реализующих обновленные ФГОС НОО и ФГОС ООО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лана работы по сопровождению молодых педагогов, которым предстоит начать работу по обновленным ФГОС НОО и ФГОС ООО с 01.09.2022 год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нформационн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изменениях норматив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 курсах повышения квалификации по вопросам реализации ФГОС НОО и ФГОС ООО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 возможности получить консультативную поддержку на федеральном у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организации внедрения обновленных ФГОС НОО и ФГОС ОО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роведении постоянно действующих семинаров (в том числе в дистанционном режиме) по вопросам введения обновленных ФГОС НОО и ФГОС ОО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роведении региональных, муниципальных научно-практических конференций, педагогических чтений, вебинаров по проблемам введения обновленных ФГОС НОО и ФГОС ОО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мероприятий (вебинары, практические групповые занятия, индивидуальные консультации и др.) по работе с порталом Единое содержание общего образования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://edsoo.ru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с целью поддержки педагогов, которые испытывают затруднения по освоению конструктора рабочих програм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щение и анализ уроков учителей, работающих по обновленным ФГОС НОО и ФГОС ООО с целью оказания методической поддержки и определения профессиональных затрудн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взаимопосещения уроков учителями, работающими по обновленным ФГОС НОО и ФГОС ООО, в рамках одного методического направления и между различными методическими направлен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ие в формировании и развитии системы наставничества для оказания помощи и профессионального роста молодых педагогов, работающих по обновленным ФГОС НОО и ФГОС ООО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Ы ДЛЯ ОБСУЖД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зменение оценочной деятельности в образовательной организации в связи с внедрением обновленных ФГОС НОО и ФНОС ООО. Развитие внутренней системы оценки качества образования (ВСОКО)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зменение требований к предметным результатам в рамках реализации обновленных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спользование электронных средств обучения и дистанционных технологий для повышения качества образовательной деятельности в рамках внедрения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етодический инструментарий учителя-предметника: подборка методических материалов, электронных ресурсов и нормативных документов для организации образовательной деятельности по обновленным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вые требования ФГОС НОО и ФГОС СОО к психолого-педагогическому сопровождению образовательной деятельности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вые формы занятий внеурочной деятельности в рамках внедрения ФГОС НОО и ФГОС ООО»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налитическ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готовности учителей к началу внедрения обновленных ФГОС НОО и ФГОС ООО: подготовка рабочих программ, оценочных материалов и др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образовательной деятельности в контексте внедрения обновленных ФГОС НОО и ФГОС ООО. Выявление профессиональных затруднений (дефицитов) в подготовке и проведении урок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ректировка направлений и форм методического сопровождения учителей на основе результатов мониторинг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налитическ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рабочих программ учебных предме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планов-конспектов (технологических карт) уроков (внеурочных занятий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классных журнал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ие ресурс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ные рабочие программы по предметам обязательной части учебного плана доступны педагогам посредством портала Единого содержания общего образования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edsoo.ru/Primernie_rabochie_progra.ht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, а также реестра примерных основных общеобразовательных программ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5"/>
              </a:rPr>
              <a:t>https:/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6"/>
              </a:rPr>
              <a:t>fgosreestr.ru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ортале Единого содержания общего образования действует конструктор рабочих программ – удобный бесплатный онлайн-сервис для индивидуализации примерных рабочих программ по учебным предметам: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7"/>
              </a:rPr>
              <a:t>https://edsoo.ru/constructo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омощь учителю разработаны и размещены в свободном доступе методические видеоуроки для педагогов, разработанные в соответствии с обновленными ФГОС начального и основного общего образования: https://edsoo.ru/Metodicheskie_videouroki.htm   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ие ресурс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мещены в свободном доступе учебные пособия, посвященные актуальным вопросам обновления предметного содержания по основным предметным областям ФГОС НОО и ООО: https://edsoo.ru/Metodicheskie_posobiya_i_v.htm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ую консультативную помощь по вопросам реализации обновленных ФГОС НОО и ООО учитель и руководитель образовательной организации может получить, обратившись к ресурсу «Единое содержание общего образования» по ссылке: https://edsoo.ru/Goryachaya_liniya.ht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совет66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ttps://pedsovet66.irro.ru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здел «Обновленные ФГОС» размещены ответы на вопросы слушателей ДПП «Реализация требований обновленных ФГОС НОО, ФГОС ООО в работе учителя»,  «горячая линия» для консультаций педагогов обл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0T15:55:46Z</dcterms:created>
  <dc:creator>mm1</dc:creator>
  <dc:description/>
  <dc:language>en-US</dc:language>
  <cp:lastModifiedBy>User</cp:lastModifiedBy>
  <dcterms:modified xsi:type="dcterms:W3CDTF">2022-08-27T07:31:17Z</dcterms:modified>
  <cp:revision>539</cp:revision>
  <dc:subject/>
  <dc:title>Презентация PowerPoint</dc:title>
</cp:coreProperties>
</file>